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577-E897-42A3-A6AD-EF075BE7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5C9-52D5-4682-AB85-4343F4E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EFD-A946-4B6B-9616-BAB90F69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55D-CC6F-45C9-960A-66998900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BEC-6B20-4FA7-8E39-AFE97543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100-4A1D-4EBB-933E-1F45B01A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05F-307F-4E4A-A233-73B16A9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D58-6B26-4B5E-AB11-93B4905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6F7-B00A-4EE6-8A99-8F3AA4A8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69D-404A-4E60-B2E4-2437EE6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1CA-FBBA-46AD-85B3-842F2A6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276-E225-4A7A-B88D-7AAD89C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8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D050-7E47-4425-8953-F63A25C0E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Unit 6- Chapter 29</a:t>
            </a:r>
            <a:br>
              <a:rPr sz="4400"/>
            </a:br>
            <a:r>
              <a:rPr b="0" lang="en-US" sz="3600" spc="-1" strike="noStrike">
                <a:solidFill>
                  <a:srgbClr val="bfbfbf"/>
                </a:solidFill>
                <a:latin typeface="Calibri"/>
              </a:rPr>
              <a:t>Government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Ryan Sokol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Erick Bambe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Supply- Side 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Tax Cu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Raise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Create more working, more saving, and more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Increase Labor and Cap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Small magnitude of supply-side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Underestimates demand-side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Problems in ti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Increases income ine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Effectiveness in policies depend on which type of taxes are c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Supply-side tax c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have primary short run impact on 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Widen income inequa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Raise budget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Promotes faster long-term economic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What should fiscal policy be used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Short Reactionary L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Spending/Savings directly effect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ax cuts/ Increases directly effect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Adjusting economy to potential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Solving imbalances in the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Income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9144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U.S.- Variable Taxes, not fixed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axes increase as income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Income taxes rise to counter inflation, fall to battle re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371600" y="33526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Consumption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62120" y="41911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Shows GDP, Taxes, DI, C, I, G, (X-IM), and Total Expendi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Enables viewers to find equilibri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Effects of G and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G effects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More Jo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Highe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Less Jo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Lowe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Effect 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Less Taxes =&gt;  More DI =&gt; Higher C =&gt; Highe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Why the Oversimplified Multiplier is Wr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Does not account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Variable Tax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62120" y="34290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Government Transfer Pay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09480" y="434340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verse of Taxes (Government giving money to publ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Planning Expansive Fiscal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 Transfer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here is a recessionary g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here is high un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Calibri"/>
              </a:rPr>
              <a:t>Planning Contractionary Fiscal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Increase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Decrease Transfer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Wh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o fight an inflationary g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To fight inf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Calibri"/>
              </a:rPr>
              <a:t>Raising Spending Vs. Cutting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Fiscal Liber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Opin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There is something amiss when a country as wealthy as the United States has such an impoverished public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Vie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America nee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fbfb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Better schools &amp; Healthcare; Aid for Elderly; Environmental Improvements; Less poverty; better 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Expansionary Gap: Increase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Recessionary Gap: Increase T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alibri"/>
              </a:rPr>
              <a:t>Raising Spending Vs. Cutting Tax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Fiscal Conserv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Opin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Gov’t sector is already too large; foolish to rely on gov’t to do things that private individuals can do better on their 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Vie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Growth of gov’t interferes with daily lives and circumscribes our fre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alibri"/>
              </a:rPr>
              <a:t>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Expansionary Gap: Decrease T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alibri"/>
              </a:rPr>
              <a:t>Contractionary Gap: Decrease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09:34Z</dcterms:created>
  <dc:creator>cbrown</dc:creator>
  <dc:description/>
  <dc:language>en-US</dc:language>
  <cp:lastModifiedBy>cbrown</cp:lastModifiedBy>
  <dcterms:modified xsi:type="dcterms:W3CDTF">2009-01-26T19:08:08Z</dcterms:modified>
  <cp:revision>6</cp:revision>
  <dc:subject/>
  <dc:title>Unit 6- Chapter 29 Government Policy</dc:title>
</cp:coreProperties>
</file>